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8CA-C93D-42A6-B8E9-0C210523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68F-A571-43C9-B664-2DEE3DE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2A1-712E-4C55-9AA4-91117BBE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797-79C3-4CB1-89BB-DAB6142A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A05-762E-4C79-91C0-6F7BF77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D6C-9B3F-47D6-9444-22EF20D4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5B0-3978-42E7-98B4-742A6BE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A8B-692F-4B60-96C4-D051BF4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A71-3434-48BD-8345-5055683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280-C1D9-4ECD-A362-7FAFE1DC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E56-641F-41D2-8300-A54DB6B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28C-BF5D-44A1-9347-588EE66E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47A-E628-48A7-8D4A-BCEAAAC0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ro and Negative Ex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133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676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Zero and Negative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655640"/>
            <a:ext cx="845820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715000" cy="81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38440" cy="72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33920" y="1219320"/>
            <a:ext cx="1904760" cy="625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8610480" cy="83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4197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4197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43434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3434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434340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2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1066680" cy="596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86200" y="114300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2578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03440"/>
            <a:ext cx="9372600" cy="135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Exponential 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96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19810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1981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19810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4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534520" cy="254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8686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28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30:25Z</dcterms:created>
  <dc:creator>Susannah Graham</dc:creator>
  <dc:description/>
  <dc:language>en-US</dc:language>
  <cp:lastModifiedBy>Susannah Graham</cp:lastModifiedBy>
  <dcterms:modified xsi:type="dcterms:W3CDTF">2009-08-04T22:14:47Z</dcterms:modified>
  <cp:revision>3</cp:revision>
  <dc:subject/>
  <dc:title>Lesson 8.1 Zero and Negative Exponents</dc:title>
</cp:coreProperties>
</file>